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D87-0F96-4A3C-96BA-4CC294BF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2A7-1496-48C7-A7B2-908AA58E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9E9-ADE6-4F3A-9B2E-3358D00A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4F6B-0355-49E4-A64F-022CEDE3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92CA-51BC-4B92-A679-2A6974C2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5051-588F-487B-B6EC-B387435B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8DCA-6C35-4B82-AF5B-724220C9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8092-6952-49D8-95DB-CD67CCEB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68DA-C23C-4229-A18D-A7052BDA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C4D6-68FC-4B41-97F4-CABBA07E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F258-8585-403F-9A08-71AA4627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612-2C7A-489E-9021-48E9D4B6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9DA3-C3E7-4EA6-99BC-ADD1D664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B313-FD08-44D4-81CD-9D49052D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E68A-83C9-468D-8F55-A8EC5BC9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FB40-0B98-4292-9FE3-7E3EC0ED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CDB7-AAF2-4692-B655-FA08D55E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BC82B-D8F1-4384-8096-589F8597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348BA4-B421-4B9C-9869-40E2FB0E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8C9DC-0B82-408B-8B4D-FBEDBDFB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15960-A679-4AB4-9B13-0EADA7AB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7D488-0AC7-460F-8BF2-8C355476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B12C-4842-48DF-A205-5756321B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A2A3B-172D-4EB6-A0EC-0B487FA9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096FD-1FF3-4D11-8954-817903AC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ECCC4-BDB1-459B-B9CE-E980B48E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2FFEA-3C4A-4DC2-B418-DEC06519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53CE3-89A2-46AF-91A5-62C28976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01B3F-5D99-43D7-B8A4-20E8BC1A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EB818-0E07-46FC-A519-F1EDCC29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EB8A3-6E15-462C-AAA1-0F32B788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77467-2B3C-492D-BED4-B8A7FCB4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500B1-96D8-4FA5-A3A0-6C5C96C5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EF3-88A1-41B3-9B2A-CBBC9FE7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604B9-B564-45A6-975A-4AC508C9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D6897-84F5-458E-A1D5-9A45B919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E89E2-8F97-4BCA-8B39-9AC733BF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7E898-FA8C-48C4-8D1B-668DBC93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CE90A-DDFE-4B4D-AF79-DF2692CE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C025D-1C9C-4FED-89F9-80EC2D37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588BA-9BE4-443C-93E7-3CF8052C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86666-A4FF-4AFD-B728-5B31001C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9AECC-D187-4EE9-A1FE-C1A98476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01919-4C7B-4B00-A53E-ABDE5625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DE5-1787-4DB5-A1BE-8572815B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E83363-B464-4614-ADF0-2DCE0D44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83104D-54A2-4045-AB17-3043A85F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D367EB-5E8C-4ACF-A983-07F83DCE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E15F27-5991-47DD-BC69-08FEC8A3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3BFDA8-DC1B-489C-9026-44EE49ED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A8C07-F4E3-46D5-B959-4EF97B7D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A39EE-E3C0-4C00-A93C-9F551BD3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1E381E-1885-46DD-9566-4A55AD7A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DC075-FD55-4B63-9FF1-2609E96E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5023E-C581-41C8-983B-C4A07B45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54A-B83F-4AA9-8E57-08BC8FE3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7DF013-7BBB-4FFC-B2C4-0CADBEDE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81A0BF-2F5F-428B-ACE8-18D677FA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8C1924-79F7-4443-8873-D8F63B0A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11A50-7805-4C56-AC6C-6BDEDA45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E5A4A-56E4-4638-950B-EB0B4F93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9B007-00BF-4AF8-AD57-DFC0D853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F5397D-FDFD-4847-829A-62FE5E7C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5146ED-F2DD-461E-88EB-667BD12A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EE2F4E-8070-426D-87DD-71C15BE1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9AF1AD-43C8-4801-A169-646CFF6A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A95D-80E9-4754-95B4-ED9C5A80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CFF48C-8C2D-4F1A-8FAB-0FA0AF3C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6747E6-051A-49A3-8E04-EAB60AF1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BF41F4-1400-4AA3-A629-1E76962A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E31CB8-CB4E-437B-B502-C46AF0A9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3852EA-0884-45B5-8C80-621B690C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9160C5-6A1F-489E-944B-BA1E5C52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5488CC-B767-4080-B2B2-26DDBCC1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A6A70B-5466-4A7B-AC23-AF9EF961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BA52E3-E1D3-444E-95B7-C162094E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FB5A6D-5CFC-4374-9F7E-C6EA6E30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39B-555C-46A3-A821-2D843798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A09478-935B-4B73-A7A4-EA3F3CFA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C75CD5-2ACD-4F9B-A45F-38C09170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D43144-CE3E-4FE5-9E27-7DA88723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76A90-6C10-41F5-8C8D-89EDDF7A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FAD90-26C9-4F49-8609-F6FC6355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4362-E269-4040-8A20-11AB30C7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D7B4-944C-4A50-8F16-9BCB637FDCE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B619-7DDF-4B4A-9AF6-6F653A0E7F4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2899-D623-477D-A9E5-9ED7327D215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3A00-2B07-47B0-9177-DAAA8B6DADA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3FE4-7B8F-401D-8CD3-CEA2EEBFD76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1057-381F-44D9-9C11-878894CE8F3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6C11-04E5-430D-BC08-B0A119E3A75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28920" y="285480"/>
            <a:ext cx="65008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И ТРЕВОГИ И СТРАХА: СРАВНИТЕЛЬНАЯ ХАРАКТЕРИСТИ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 rot="21285600">
            <a:off x="5357880" y="1643040"/>
            <a:ext cx="3413160" cy="257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 rot="541800">
            <a:off x="2144520" y="4540320"/>
            <a:ext cx="3166920" cy="2081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 rot="1005600">
            <a:off x="500040" y="428760"/>
            <a:ext cx="1776600" cy="2357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4"/>
          <a:stretch/>
        </p:blipFill>
        <p:spPr>
          <a:xfrm rot="20731800">
            <a:off x="2499840" y="1857240"/>
            <a:ext cx="226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3920" y="357120"/>
            <a:ext cx="6829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ТРЕВОЖНОСТ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143000"/>
            <a:ext cx="82580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эмоциональное переживани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сихологическая особенность, устойчивое свойство человека, характерная для него черт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 rot="211200">
            <a:off x="433440" y="3832200"/>
            <a:ext cx="3929040" cy="2611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 rot="21229200">
            <a:off x="4838400" y="3839760"/>
            <a:ext cx="37861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6357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ЖНОСТЬ И СТРАХ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3840" y="928800"/>
            <a:ext cx="854388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итерии различ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конкретности угрозы, опасности, на которую реагирует челов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угроз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реагирования челове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ь организации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внутренней напряженност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ительност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ственно тревог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а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неотвратимости надвигающейся катастроф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-боязливое возбужд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6929280" y="214200"/>
            <a:ext cx="1722600" cy="1785960"/>
          </a:xfrm>
          <a:prstGeom prst="rect">
            <a:avLst/>
          </a:prstGeom>
          <a:ln w="0">
            <a:noFill/>
          </a:ln>
        </p:spPr>
      </p:pic>
      <p:sp>
        <p:nvSpPr>
          <p:cNvPr id="363" name="Стрелка вправо 5"/>
          <p:cNvSpPr/>
          <p:nvPr/>
        </p:nvSpPr>
        <p:spPr>
          <a:xfrm>
            <a:off x="357120" y="457200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Стрелка вправо 6"/>
          <p:cNvSpPr/>
          <p:nvPr/>
        </p:nvSpPr>
        <p:spPr>
          <a:xfrm>
            <a:off x="35712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Стрелка вправо 7"/>
          <p:cNvSpPr/>
          <p:nvPr/>
        </p:nvSpPr>
        <p:spPr>
          <a:xfrm>
            <a:off x="7429680" y="492912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Стрелка вправо 8"/>
          <p:cNvSpPr/>
          <p:nvPr/>
        </p:nvSpPr>
        <p:spPr>
          <a:xfrm>
            <a:off x="371484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Стрелка вправо 9"/>
          <p:cNvSpPr/>
          <p:nvPr/>
        </p:nvSpPr>
        <p:spPr>
          <a:xfrm>
            <a:off x="357120" y="528624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Стрелка вправо 10"/>
          <p:cNvSpPr/>
          <p:nvPr/>
        </p:nvSpPr>
        <p:spPr>
          <a:xfrm>
            <a:off x="357120" y="564372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28880" y="357120"/>
            <a:ext cx="4543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СТРА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" y="1143000"/>
          <a:ext cx="8186760" cy="4857840"/>
        </p:xfrm>
        <a:graphic>
          <a:graphicData uri="http://schemas.openxmlformats.org/drawingml/2006/table">
            <a:tbl>
              <a:tblPr/>
              <a:tblGrid>
                <a:gridCol w="4210200"/>
                <a:gridCol w="397656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ая определенная, специфичная эмо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да несет негативный отте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комбинация эмоций, где страх – лишь одна из н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 и в виде радостного волнения, волнующего ожи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: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рахе и в тревоге есть общий эмоциональный компонент в виде чувства волнения и беспокойства, т.е. в обоих понятиях отображено восприятие угрозы или отсутствие чувства без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3880" y="213840"/>
            <a:ext cx="7682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Х И ТРЕВОГА ПО ЩЕРБАТЫХ Ю.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28760" y="1071720"/>
          <a:ext cx="8072280" cy="5367240"/>
        </p:xfrm>
        <a:graphic>
          <a:graphicData uri="http://schemas.openxmlformats.org/drawingml/2006/table">
            <a:tbl>
              <a:tblPr/>
              <a:tblGrid>
                <a:gridCol w="2690640"/>
                <a:gridCol w="2691000"/>
                <a:gridCol w="269064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из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на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ые особ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до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во время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на псих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буждаю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мозя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стимулов, вызывающих эмоц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пределенный, абстрак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й, конкре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500040" y="428760"/>
          <a:ext cx="7786800" cy="600048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1711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в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цирована в буду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ом является прошлый травмирующий опы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мыслительных процессов в формировании психических ощущ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лизация в к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еаг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инктив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23572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ЮМ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4200" y="100008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эмоциональным переживанием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ое свойство челове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сть и страх различаются по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конкретности угрозы; направленности угрозы; способу реагирования человека; сложности организации переживания; интенсивности пережи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вершенная определенная, специфичная эмоция.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трево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омбинация эмоций, где страх – лишь одна из н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несет негативный оттенок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можна и в виде радостного волнения, волнующего ожид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4114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ЛИТЕРАТУРА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428840"/>
            <a:ext cx="77580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рбатых Ю.В. Ивлева Е.И. «Психофизиологические и клинические аспекты страха, тревоги и фобий». Воронеж. Истоки. 199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sy.1september.ru/articlef.php?ID=200400804. Статья: «ТРЕВОЖНОСТЬ, ТРЕВОГА, СТРАХ: РАЗЛИЧЕНИЕ ПОНЯТИЙ» - Игорь ВАЧКОВ, доктор психологических нау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рд  К.Э.  Психология эмоций  СПб., 199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2T18:50:53Z</dcterms:modified>
  <cp:revision>8</cp:revision>
  <dc:subject/>
  <dc:title>Эмоции тревоги и страха: сравнительная характерис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a0000000000010250600207f5200358026400</vt:lpwstr>
  </property>
</Properties>
</file>